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E21-FA39-4FEE-B5DD-9714816D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816-0B75-4BC4-912B-3D82620A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5663D-A28F-4E0C-9B92-819C00D2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46595-329C-468E-A42F-EF68865D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E87A3-8B92-4FB0-A0E5-5A973F2E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1B7FC-893E-4428-BE50-3316D8C6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FB199-091C-46B1-90D7-77AC34F7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C3435-B7A0-4824-8EFA-676C3617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DE843-9BE1-43D8-BE6C-2304EB20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1A2C1-E01A-45D1-9763-E5E518D1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A6F6C-B101-41F9-B913-F82DA66C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E7E77-CC95-4437-932E-49EE34FD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D72-2ECF-4BE8-A8F7-D051D9F2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B82D2-ADC1-4DD5-B409-10C48A23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4AB57-89CD-49AC-94D2-48F77562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94F8F-B1EA-4CEB-BC80-0AEB18A6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9E68F-56CD-4305-A76F-F3B258AF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9E40F-E87E-4F19-8A35-F27EBF79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83507-65FD-44DE-B617-AF55A8D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784E9-C026-4C1C-B7DA-5CDEB6D8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91EB7-FF96-44AB-9D00-4DFD0539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966B3-BE5C-4B78-B385-2D8780A7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1BB82-C172-4B48-9860-171A06B4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F18-178D-45F5-B344-2A9E8A0F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A83BB-0AE2-44DA-94BC-29562F35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7950E-7B0F-4C7F-BF21-F70F2A35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C08C6-559C-450C-85E3-24877E26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A7067-CA12-4C06-8205-0A2C3550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DD0E9-51E8-44BB-B322-BDE02892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4AA11-624A-434C-9264-027933C9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E5FCB-8E6D-456F-B472-B3B2B8D9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58212-249A-4735-8A30-04CEDD77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3E365-175E-4005-848A-96BFA87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F520D-4A42-480C-A04A-EA5BEAD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8DD2-92A8-411A-A0C8-E17E59C8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8D6C3-F77E-45F8-AA83-BDCDD5E2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08673-D4CD-4FA7-9304-7D61E7CF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F6F2C-5F77-4BDE-820F-052EF310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F39D2-2B0D-4DEC-A401-2E319EB4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7F3F9-C485-4C10-86DE-62529E79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1BDB5-BA1A-42F0-8963-D232D530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0DBB7-8774-45D3-B91F-1BDE9E48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BD2B2-B3F2-40A8-815C-4025C548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D8C98-D325-4FDF-94B0-8F006A7F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2AAA7-1E2A-4C6E-A2AF-DDD2FF21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5560-BED3-4A69-BE45-412C4AF8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730C6-9315-4180-AE23-99F3694B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E1483-27AD-4811-8558-CD9A96D6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77803-5FBE-4087-AEB1-6E9BFDDC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E163F-424A-4C7C-AA29-6756CF1C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AE9DE-A194-4885-BA1F-D59B4C3C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C11E-D99B-46E9-8376-464C5C9B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9E2E-5325-4073-B8EF-D95D1059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0025-0CE3-4DEB-A6C3-1CD80BEF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8692-6B5F-4134-BA48-243AD168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54A3-6E43-4175-B9B9-7467E631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DC9-54F6-424C-A1A2-7CE61EFD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40AF-700F-4542-9AB5-51324A37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C539-BE68-4E3D-9976-2E0ABC3B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5661-3F2B-417C-BDE5-81C822CC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895A-47D2-4AED-A1BB-D75233AD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A2E2-DF57-470C-A9DD-83D75DFA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5A9B-0804-4073-A24A-4E515659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6E48-4F33-47D9-BB3C-6DCFBD23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ECDC-A7A4-458A-AA65-B2976369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FB82-6EA3-4C30-AEE6-8EBA3C89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832F-D5FA-4A6C-B633-B81A52BD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16D-D131-426A-A3D7-F247883F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1F5C-6645-44DB-8189-9CFFB966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4112-9AFF-430F-A3C6-5E717D1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D33C-7998-45C4-BD64-261D52B0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9D7B-91F7-42F8-AA56-C3663C7D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184C-38FA-478C-8B70-2E639853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9B61-A7D1-4F68-935A-057DAC6C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1384-4A9F-4FC5-8975-983B15AB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8A9D-5907-4EA4-852C-ED3D46C8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389D2-2F5C-4094-8769-2F8AEE37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F35E4-12F7-4FCE-9142-53867C02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15B-E0D3-4A8F-89F2-23E93A48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CE4C-0A83-4EB1-A20E-36E1599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9B641-6B09-4465-9F7A-866504C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FB7A-6385-4AE9-A34E-25267DFF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63E3E-CA6F-402F-A077-F737D4BA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45116-2459-470D-AE87-CDE7A093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74E3-F422-49C6-BE22-A373F7F8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6EC71-BD67-486A-B7A2-4A5B0B4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BE26-33E2-485D-B950-E2AA34D8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EA762-2C34-4BF5-B19F-5D62FCE8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03DC9-B261-4222-9F71-F7663CC0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8C6-291B-4934-BD1D-EB9702AE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FB918-1F68-4C1F-8622-AB364D2C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A4D9F-C5BD-4229-9745-7300FDB0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689A-D57B-4B56-B15D-99F7DC14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BA610-3A34-4E03-8A61-9A3707AD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C3723-7FDF-4108-8733-A94B63DF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E9D74-7351-4A45-8061-33B19D12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B2D3F-4E1C-48E1-841D-9CDA3C14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934FC-0257-47EB-ADF1-644907D0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23E9E-223E-46B3-8141-26937655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5FC08-C052-4D4E-AAD5-BEB58399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4C0-DA0B-43A8-9A67-54E877A3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A66E-E7BB-425A-9D7B-5148586B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0E201-AF57-4E79-A505-2964E027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16FCF-0935-4D02-902B-931E0118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A7686-0502-4A34-8FB2-ED071E8E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A7BBD-D066-4C95-9940-98A23481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8D2D-81C6-4815-95EC-D7E23E27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6549-9F7A-4EC6-A632-1672EB8D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500C4-F6E4-4FB4-B101-BFB5AB99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792E1-5376-4028-98ED-182BABD3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A3BF1-14AB-400D-92A4-41C0347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485-1460-4509-9AF5-526617CB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6AF98-BCFC-445A-8DB2-F29A40DE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D881C-DEDB-4B75-A865-249B570F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0180D-B97B-4F4B-A7DA-67531E4F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8B576-A432-441F-AA89-BA5EA88C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64F25-5890-45C1-B893-9A9EA142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5737F-B0F5-41D4-9F69-6DC2D874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39B76-49C5-4237-A25B-C12F8902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0D336-C9C2-4336-B395-F136B820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90CDF-1E40-4314-9ADA-C3058CF1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09DF5-EA46-4528-8C49-7410B6F1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C07-6CE8-4DB1-926D-EE74AE3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38BEE-2E58-4E5E-BDCE-3AA001D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9D2FD-3C88-42FD-B278-1106E0B8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59812-B840-4B40-B27D-95DC6231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C1EDB-BFF5-46D4-AB01-ACF067D9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52B81-29D2-44F3-ADF5-F3F3688B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AB56B-67D9-455E-A4B6-A72AEAB4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5FD1F-7789-48D3-BB84-9AEB4195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CF255-DF74-4F0A-A8B0-156DAA14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BFF7E-5AE6-43C4-88C0-CFE2910A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E94A5-5D4B-4351-B73F-52B86BE0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A9D-0C39-426F-ADB7-1D2658C9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A575C-F5D0-411F-B328-24E8F5ED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A80D9-4082-484E-9F46-5FAD294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7C52B-DE44-4B4F-AFFF-A84151B3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5CDF7-B60B-4418-8C62-71E53985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CB1D3-E618-442F-BEF8-4BF3D015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51C76-CBF7-4E51-8B50-2EEAEC58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DB309-78F6-416E-BF5E-DFE34A6F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62C2E-F39E-4735-AAAC-ADE996BB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DC22C-8E60-4A55-A201-D02F07FF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1FDCA-EEEA-4F27-B505-3A64EEEE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C990-8AE9-450E-BE52-F754EEC34B9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4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4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4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C2CC-732C-4511-80FF-AF4D37C112A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76EC-38C8-421B-90D8-02B8E52724D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CA14-0F65-4AA7-A4BA-7B31F642B82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D5FF-807A-4D77-96AC-7E169FF2325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06BA-8DB2-4137-9DC6-919A55C7CFE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977C-5093-4355-BDE8-53CC289C619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9AEC-C2DE-4538-B556-F3E7E2CD747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B9C7-E9DD-49F1-A28B-ED014E4BD39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80DF-06BF-45D7-A2BA-B89A7FAED67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38E4-0794-4053-9F4D-10550FBD763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Kozuka Mincho Pro R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6E1F-9105-4338-B1E0-FDFFF89B969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571680"/>
            <a:ext cx="8229600" cy="58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з опыта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Constantia"/>
              </a:rPr>
              <a:t>работы учителя английского языка</a:t>
            </a:r>
            <a:br>
              <a:rPr sz="3600"/>
            </a:br>
            <a:r>
              <a:rPr b="0" lang="ru-RU" sz="2400" spc="-1" strike="noStrike">
                <a:solidFill>
                  <a:srgbClr val="0000ff"/>
                </a:solidFill>
                <a:latin typeface="Constantia"/>
              </a:rPr>
              <a:t>МОАУ СОШ 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№17</a:t>
            </a: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Грозы   Натальи  Давыдов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dobe Garamond Pro"/>
              </a:rPr>
              <a:t>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Constantia"/>
              </a:rPr>
              <a:t>«Я не учу своих учеников,                       я только пытаюсь обеспечить услови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Constantia"/>
              </a:rPr>
              <a:t>при которых они могут учиться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А.Эйнштей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7" name="Picture 6" descr="Гроза Н"/>
          <p:cNvPicPr/>
          <p:nvPr/>
        </p:nvPicPr>
        <p:blipFill>
          <a:blip r:embed="rId1"/>
          <a:stretch/>
        </p:blipFill>
        <p:spPr>
          <a:xfrm>
            <a:off x="571680" y="2857680"/>
            <a:ext cx="2071440" cy="29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мплект тестов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для проведения компьютерного тестирования, сбора и анализа его результат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468360" y="1785960"/>
            <a:ext cx="8229600" cy="4519440"/>
          </a:xfrm>
          <a:prstGeom prst="rect">
            <a:avLst/>
          </a:prstGeom>
          <a:ln w="0">
            <a:noFill/>
          </a:ln>
        </p:spPr>
      </p:pic>
      <p:sp>
        <p:nvSpPr>
          <p:cNvPr id="656" name="Заголовок 1"/>
          <p:cNvSpPr/>
          <p:nvPr/>
        </p:nvSpPr>
        <p:spPr>
          <a:xfrm>
            <a:off x="642960" y="285840"/>
            <a:ext cx="82296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468360" y="1773360"/>
          <a:ext cx="8207280" cy="4559040"/>
        </p:xfrm>
        <a:graphic>
          <a:graphicData uri="http://schemas.openxmlformats.org/drawingml/2006/table">
            <a:tbl>
              <a:tblPr/>
              <a:tblGrid>
                <a:gridCol w="1641600"/>
                <a:gridCol w="1641240"/>
                <a:gridCol w="1641600"/>
                <a:gridCol w="1641240"/>
                <a:gridCol w="1641600"/>
              </a:tblGrid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д заданий /Класс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2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3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4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5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множест-венный выбор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is, can, h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be 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be I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esent Simple 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esent Simple I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ny/ Much/ A lot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ny/ Much/ A lot of  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ny/ Much/ A lot of I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ses (Iv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ses (IIv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еп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ав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лагательных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v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еп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ав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лагательных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v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ses 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ses I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ses II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ses IV v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ручной ввод текст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be (am, i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be (am, is, a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be 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be I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have 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have I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esent Simple 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esent Simple IIv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ses (Iv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ses (IIv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rdbuild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rdbuil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v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ffexes -ish, -an, -e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ffexes -ish, -an, -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v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зультаты апробации тес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042920" y="1916280"/>
          <a:ext cx="6553440" cy="4622760"/>
        </p:xfrm>
        <a:graphic>
          <a:graphicData uri="http://schemas.openxmlformats.org/drawingml/2006/table">
            <a:tbl>
              <a:tblPr/>
              <a:tblGrid>
                <a:gridCol w="1441440"/>
                <a:gridCol w="1440000"/>
                <a:gridCol w="1800000"/>
                <a:gridCol w="1872000"/>
              </a:tblGrid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личество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ультаты до апробации компьютерного тест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ультаты после апробации компьютерного тест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3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1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4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4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3В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(эксперемен-тальный кла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3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4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Kozuka Mincho Pro 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ff"/>
                </a:solidFill>
                <a:uFillTx/>
                <a:latin typeface="Constantia"/>
              </a:rPr>
              <a:t>http://mytest.klyaksa.net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1"/>
          <p:cNvSpPr/>
          <p:nvPr/>
        </p:nvSpPr>
        <p:spPr>
          <a:xfrm>
            <a:off x="0" y="12358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5395"/>
                </a:solidFill>
                <a:latin typeface="Kozuka Mincho Pro R"/>
                <a:ea typeface="Times New Roman"/>
              </a:rPr>
              <a:t>The mediocre teacher tells.</a:t>
            </a:r>
            <a:endParaRPr b="0" lang="en-US" sz="4800" spc="-1" strike="noStrike">
              <a:solidFill>
                <a:srgbClr val="000000"/>
              </a:solidFill>
              <a:latin typeface="Kozuka Mincho Pro 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5395"/>
                </a:solidFill>
                <a:latin typeface="Kozuka Mincho Pro R"/>
                <a:ea typeface="Times New Roman"/>
              </a:rPr>
              <a:t>The good teacher explains.</a:t>
            </a:r>
            <a:endParaRPr b="0" lang="en-US" sz="4800" spc="-1" strike="noStrike">
              <a:solidFill>
                <a:srgbClr val="000000"/>
              </a:solidFill>
              <a:latin typeface="Kozuka Mincho Pro 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5395"/>
                </a:solidFill>
                <a:latin typeface="Kozuka Mincho Pro R"/>
                <a:ea typeface="Times New Roman"/>
              </a:rPr>
              <a:t>The superior teacher demonstrates.</a:t>
            </a:r>
            <a:endParaRPr b="0" lang="en-US" sz="4800" spc="-1" strike="noStrike">
              <a:solidFill>
                <a:srgbClr val="000000"/>
              </a:solidFill>
              <a:latin typeface="Kozuka Mincho Pro 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b5395"/>
                </a:solidFill>
                <a:latin typeface="Kozuka Mincho Pro R"/>
                <a:ea typeface="Times New Roman"/>
              </a:rPr>
              <a:t>The great teacher inspires.</a:t>
            </a:r>
            <a:endParaRPr b="0" lang="en-US" sz="4800" spc="-1" strike="noStrike">
              <a:solidFill>
                <a:srgbClr val="000000"/>
              </a:solidFill>
              <a:latin typeface="Kozuka Mincho Pro 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ozuka Mincho Pro R"/>
                <a:ea typeface="Times New Roman"/>
              </a:rPr>
              <a:t>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Kozuka Mincho Pro R"/>
                <a:ea typeface="Times New Roman"/>
              </a:rPr>
              <a:t>William Arthur Ward</a:t>
            </a:r>
            <a:endParaRPr b="0" lang="en-US" sz="3600" spc="-1" strike="noStrike">
              <a:solidFill>
                <a:srgbClr val="000000"/>
              </a:solidFill>
              <a:latin typeface="Kozuka Mincho Pro 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Заголовок 1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431200" cy="1146240"/>
          </a:xfrm>
          <a:prstGeom prst="rect">
            <a:avLst/>
          </a:prstGeom>
          <a:ln w="0">
            <a:noFill/>
          </a:ln>
        </p:spPr>
      </p:pic>
      <p:pic>
        <p:nvPicPr>
          <p:cNvPr id="664" name="Рисунок 5" descr="'''aaaa.jpeg"/>
          <p:cNvPicPr/>
          <p:nvPr/>
        </p:nvPicPr>
        <p:blipFill>
          <a:blip r:embed="rId2"/>
          <a:stretch/>
        </p:blipFill>
        <p:spPr>
          <a:xfrm>
            <a:off x="2357280" y="2357280"/>
            <a:ext cx="4786560" cy="41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Constantia"/>
              </a:rPr>
              <a:t>Если </a:t>
            </a:r>
            <a:r>
              <a:rPr b="1" lang="ru-RU" sz="3800" spc="-1" strike="noStrike">
                <a:solidFill>
                  <a:srgbClr val="ff0000"/>
                </a:solidFill>
                <a:latin typeface="Constantia"/>
              </a:rPr>
              <a:t>сегодня</a:t>
            </a:r>
            <a:r>
              <a:rPr b="1" lang="ru-RU" sz="3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800" spc="-1" strike="noStrike">
                <a:solidFill>
                  <a:srgbClr val="0000ff"/>
                </a:solidFill>
                <a:latin typeface="Constantia"/>
              </a:rPr>
              <a:t>мы будем учить так, 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Constantia"/>
              </a:rPr>
              <a:t>как учили</a:t>
            </a:r>
            <a:r>
              <a:rPr b="1" lang="ru-RU" sz="3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800" spc="-1" strike="noStrike">
                <a:solidFill>
                  <a:srgbClr val="ff0000"/>
                </a:solidFill>
                <a:latin typeface="Constantia"/>
              </a:rPr>
              <a:t>вчера,</a:t>
            </a:r>
            <a:r>
              <a:rPr b="1" lang="ru-RU" sz="3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Constantia"/>
              </a:rPr>
              <a:t>мы украдем у наших детей</a:t>
            </a:r>
            <a:r>
              <a:rPr b="1" lang="ru-RU" sz="3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800" spc="-1" strike="noStrike">
                <a:solidFill>
                  <a:srgbClr val="ff0000"/>
                </a:solidFill>
                <a:latin typeface="Constantia"/>
              </a:rPr>
              <a:t>завтра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Джон Дью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AutoShape 10"/>
          <p:cNvSpPr/>
          <p:nvPr/>
        </p:nvSpPr>
        <p:spPr>
          <a:xfrm>
            <a:off x="477720" y="1019160"/>
            <a:ext cx="8237520" cy="559908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85dfd0"/>
              </a:gs>
              <a:gs pos="50000">
                <a:srgbClr val="72c0b3"/>
              </a:gs>
              <a:gs pos="100000">
                <a:srgbClr val="85df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601" name="AutoShape 12"/>
          <p:cNvSpPr/>
          <p:nvPr/>
        </p:nvSpPr>
        <p:spPr>
          <a:xfrm>
            <a:off x="468360" y="404640"/>
            <a:ext cx="8215200" cy="192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f7f4"/>
              </a:gs>
              <a:gs pos="100000">
                <a:srgbClr val="85df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66400" y="1844280"/>
            <a:ext cx="88772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TextBox 9"/>
          <p:cNvSpPr/>
          <p:nvPr/>
        </p:nvSpPr>
        <p:spPr>
          <a:xfrm>
            <a:off x="785880" y="3929040"/>
            <a:ext cx="3071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  <p:grpSp>
        <p:nvGrpSpPr>
          <p:cNvPr id="604" name="Group 141"/>
          <p:cNvGrpSpPr/>
          <p:nvPr/>
        </p:nvGrpSpPr>
        <p:grpSpPr>
          <a:xfrm>
            <a:off x="220680" y="81000"/>
            <a:ext cx="8423280" cy="6348240"/>
            <a:chOff x="220680" y="81000"/>
            <a:chExt cx="8423280" cy="6348240"/>
          </a:xfrm>
        </p:grpSpPr>
        <p:sp>
          <p:nvSpPr>
            <p:cNvPr id="605" name="AutoShape 142"/>
            <p:cNvSpPr/>
            <p:nvPr/>
          </p:nvSpPr>
          <p:spPr>
            <a:xfrm>
              <a:off x="220680" y="81000"/>
              <a:ext cx="8423280" cy="63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06" name="Rectangle 143"/>
            <p:cNvSpPr/>
            <p:nvPr/>
          </p:nvSpPr>
          <p:spPr>
            <a:xfrm>
              <a:off x="1427760" y="428760"/>
              <a:ext cx="6929280" cy="85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Основные направления</a:t>
              </a:r>
              <a:endParaRPr b="0" lang="en-US" sz="2400" spc="-1" strike="noStrike">
                <a:solidFill>
                  <a:srgbClr val="000000"/>
                </a:solidFill>
                <a:latin typeface="Kozuka Mincho Pro 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реализации ФГОС</a:t>
              </a:r>
              <a:endParaRPr b="0" lang="en-US" sz="24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07" name="Rectangle 144"/>
            <p:cNvSpPr/>
            <p:nvPr/>
          </p:nvSpPr>
          <p:spPr>
            <a:xfrm>
              <a:off x="5357160" y="1429200"/>
              <a:ext cx="271476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Внеурочная   деятельность</a:t>
              </a:r>
              <a:endParaRPr b="0" lang="en-US" sz="16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08" name="Rectangle 145"/>
            <p:cNvSpPr/>
            <p:nvPr/>
          </p:nvSpPr>
          <p:spPr>
            <a:xfrm>
              <a:off x="1713600" y="1500480"/>
              <a:ext cx="3152880" cy="43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Урочная деятельность</a:t>
              </a:r>
              <a:endParaRPr b="0" lang="en-US" sz="16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09" name="Rectangle 146"/>
            <p:cNvSpPr/>
            <p:nvPr/>
          </p:nvSpPr>
          <p:spPr>
            <a:xfrm>
              <a:off x="1356480" y="2279520"/>
              <a:ext cx="225252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овременные образовательные технологии</a:t>
              </a:r>
              <a:endParaRPr b="0" lang="en-US" sz="12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10" name="Rectangle 147"/>
            <p:cNvSpPr/>
            <p:nvPr/>
          </p:nvSpPr>
          <p:spPr>
            <a:xfrm>
              <a:off x="3951720" y="2279520"/>
              <a:ext cx="1691280" cy="5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ведение нетрадиционных форм урока</a:t>
              </a:r>
              <a:endParaRPr b="0" lang="en-US" sz="12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11" name="Rectangle 148"/>
            <p:cNvSpPr/>
            <p:nvPr/>
          </p:nvSpPr>
          <p:spPr>
            <a:xfrm>
              <a:off x="5929200" y="2279520"/>
              <a:ext cx="1109160" cy="5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Работа с </a:t>
              </a:r>
              <a:r>
                <a:rPr b="1" lang="ru-RU" sz="1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одаренными детьми</a:t>
              </a:r>
              <a:endParaRPr b="0" lang="en-US" sz="10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12" name="Rectangle 149"/>
            <p:cNvSpPr/>
            <p:nvPr/>
          </p:nvSpPr>
          <p:spPr>
            <a:xfrm>
              <a:off x="7151760" y="2279520"/>
              <a:ext cx="1029960" cy="129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ализация программы</a:t>
              </a:r>
              <a:endParaRPr b="0" lang="en-US" sz="1000" spc="-1" strike="noStrike">
                <a:solidFill>
                  <a:srgbClr val="000000"/>
                </a:solidFill>
                <a:latin typeface="Kozuka Mincho Pro 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ff"/>
                  </a:solidFill>
                  <a:latin typeface="Times New Roman"/>
                </a:rPr>
                <a:t>«Английская практика»</a:t>
              </a:r>
              <a:endParaRPr b="0" lang="en-US" sz="1000" spc="-1" strike="noStrike">
                <a:solidFill>
                  <a:srgbClr val="000000"/>
                </a:solidFill>
                <a:latin typeface="Kozuka Mincho Pro 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0000"/>
                  </a:solidFill>
                  <a:latin typeface="Times New Roman"/>
                </a:rPr>
                <a:t>(образовательные поездки в Англию</a:t>
              </a:r>
              <a:r>
                <a:rPr b="1" lang="ru-RU" sz="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13" name="Rectangle 150"/>
            <p:cNvSpPr/>
            <p:nvPr/>
          </p:nvSpPr>
          <p:spPr>
            <a:xfrm>
              <a:off x="6123960" y="3071520"/>
              <a:ext cx="91404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ворческие конкурсы, олимпиады</a:t>
              </a:r>
              <a:endParaRPr b="0" lang="en-US" sz="1000" spc="-1" strike="noStrike">
                <a:solidFill>
                  <a:srgbClr val="000000"/>
                </a:solidFill>
                <a:latin typeface="Kozuka Mincho Pro 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в том числе дистанционные)</a:t>
              </a:r>
              <a:endParaRPr b="0" lang="en-US" sz="1000" spc="-1" strike="noStrike">
                <a:solidFill>
                  <a:srgbClr val="000000"/>
                </a:solidFill>
                <a:latin typeface="Kozuka Mincho Pro 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14" name="Rectangle 151"/>
            <p:cNvSpPr/>
            <p:nvPr/>
          </p:nvSpPr>
          <p:spPr>
            <a:xfrm>
              <a:off x="6072480" y="4500360"/>
              <a:ext cx="1447560" cy="78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Индивидуальные занятия со слабоуспевающими учащимися</a:t>
              </a:r>
              <a:endParaRPr b="0" lang="en-US" sz="10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15" name="Rectangle 152"/>
            <p:cNvSpPr/>
            <p:nvPr/>
          </p:nvSpPr>
          <p:spPr>
            <a:xfrm>
              <a:off x="928080" y="2965680"/>
              <a:ext cx="1643040" cy="79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ехнология коммуника-</a:t>
              </a:r>
              <a:endParaRPr b="0" lang="en-US" sz="1200" spc="-1" strike="noStrike">
                <a:solidFill>
                  <a:srgbClr val="000000"/>
                </a:solidFill>
                <a:latin typeface="Kozuka Mincho Pro 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ивного обучения </a:t>
              </a: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Е.И. Пассова</a:t>
              </a:r>
              <a:endParaRPr b="0" lang="en-US" sz="12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16" name="Rectangle 153"/>
            <p:cNvSpPr/>
            <p:nvPr/>
          </p:nvSpPr>
          <p:spPr>
            <a:xfrm>
              <a:off x="1427760" y="4223160"/>
              <a:ext cx="195264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ехнология опережающего обучения</a:t>
              </a:r>
              <a:endParaRPr b="0" lang="en-US" sz="1200" spc="-1" strike="noStrike">
                <a:solidFill>
                  <a:srgbClr val="000000"/>
                </a:solidFill>
                <a:latin typeface="Kozuka Mincho Pro 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С. Н. Лысенковой</a:t>
              </a:r>
              <a:endParaRPr b="0" lang="en-US" sz="12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17" name="Rectangle 154"/>
            <p:cNvSpPr/>
            <p:nvPr/>
          </p:nvSpPr>
          <p:spPr>
            <a:xfrm>
              <a:off x="2712960" y="3143160"/>
              <a:ext cx="100944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я уровневой</a:t>
              </a:r>
              <a:endParaRPr b="0" lang="en-US" sz="1000" spc="-1" strike="noStrike">
                <a:solidFill>
                  <a:srgbClr val="000000"/>
                </a:solidFill>
                <a:latin typeface="Kozuka Mincho Pro 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дифференциаци</a:t>
              </a:r>
              <a:endParaRPr b="0" lang="en-US" sz="10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18" name="Rectangle 155"/>
            <p:cNvSpPr/>
            <p:nvPr/>
          </p:nvSpPr>
          <p:spPr>
            <a:xfrm>
              <a:off x="3838320" y="3765600"/>
              <a:ext cx="1518840" cy="80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ехнология интенсификации обучения</a:t>
              </a:r>
              <a:endParaRPr b="0" lang="en-US" sz="1100" spc="-1" strike="noStrike">
                <a:solidFill>
                  <a:srgbClr val="000000"/>
                </a:solidFill>
                <a:latin typeface="Kozuka Mincho Pro 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В.И. Шаталова</a:t>
              </a:r>
              <a:endParaRPr b="0" lang="en-US" sz="11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19" name="Rectangle 156"/>
            <p:cNvSpPr/>
            <p:nvPr/>
          </p:nvSpPr>
          <p:spPr>
            <a:xfrm>
              <a:off x="3857040" y="3000600"/>
              <a:ext cx="1143360" cy="6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Метод проектов</a:t>
              </a:r>
              <a:endParaRPr b="0" lang="en-US" sz="1100" spc="-1" strike="noStrike">
                <a:solidFill>
                  <a:srgbClr val="000000"/>
                </a:solidFill>
                <a:latin typeface="Kozuka Mincho Pro 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Е.С.Полатт</a:t>
              </a:r>
              <a:r>
                <a:rPr b="0" lang="ru-RU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Kozuka Mincho Pro 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20" name="Rectangle 157"/>
            <p:cNvSpPr/>
            <p:nvPr/>
          </p:nvSpPr>
          <p:spPr>
            <a:xfrm>
              <a:off x="5071680" y="3000600"/>
              <a:ext cx="938160" cy="6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ИКТ-технологии</a:t>
              </a:r>
              <a:endParaRPr b="0" lang="en-US" sz="11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21" name="Line 158"/>
            <p:cNvSpPr/>
            <p:nvPr/>
          </p:nvSpPr>
          <p:spPr>
            <a:xfrm flipH="1">
              <a:off x="4285080" y="1357560"/>
              <a:ext cx="12780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22" name="Line 159"/>
            <p:cNvSpPr/>
            <p:nvPr/>
          </p:nvSpPr>
          <p:spPr>
            <a:xfrm>
              <a:off x="5929200" y="1286280"/>
              <a:ext cx="5000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23" name="Line 160"/>
            <p:cNvSpPr/>
            <p:nvPr/>
          </p:nvSpPr>
          <p:spPr>
            <a:xfrm flipH="1">
              <a:off x="3037680" y="1936800"/>
              <a:ext cx="22896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24" name="Line 161"/>
            <p:cNvSpPr/>
            <p:nvPr/>
          </p:nvSpPr>
          <p:spPr>
            <a:xfrm>
              <a:off x="4295160" y="1936800"/>
              <a:ext cx="1141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25" name="Line 162"/>
            <p:cNvSpPr/>
            <p:nvPr/>
          </p:nvSpPr>
          <p:spPr>
            <a:xfrm flipH="1">
              <a:off x="2580840" y="273708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26" name="Line 163"/>
            <p:cNvSpPr/>
            <p:nvPr/>
          </p:nvSpPr>
          <p:spPr>
            <a:xfrm flipH="1">
              <a:off x="2571120" y="2715120"/>
              <a:ext cx="113760" cy="14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27" name="Line 164"/>
            <p:cNvSpPr/>
            <p:nvPr/>
          </p:nvSpPr>
          <p:spPr>
            <a:xfrm>
              <a:off x="3152520" y="27370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28" name="Line 165"/>
            <p:cNvSpPr/>
            <p:nvPr/>
          </p:nvSpPr>
          <p:spPr>
            <a:xfrm>
              <a:off x="3609360" y="2737080"/>
              <a:ext cx="458280" cy="10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29" name="Line 166"/>
            <p:cNvSpPr/>
            <p:nvPr/>
          </p:nvSpPr>
          <p:spPr>
            <a:xfrm>
              <a:off x="3642480" y="2715120"/>
              <a:ext cx="28548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30" name="Line 167"/>
            <p:cNvSpPr/>
            <p:nvPr/>
          </p:nvSpPr>
          <p:spPr>
            <a:xfrm>
              <a:off x="3499920" y="2571480"/>
              <a:ext cx="16005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31" name="Rectangle 168"/>
            <p:cNvSpPr/>
            <p:nvPr/>
          </p:nvSpPr>
          <p:spPr>
            <a:xfrm>
              <a:off x="3571200" y="4715280"/>
              <a:ext cx="1462320" cy="64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Здоровье-сберегающие технологии</a:t>
              </a:r>
              <a:endParaRPr b="0" lang="en-US" sz="12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32" name="Line 169"/>
            <p:cNvSpPr/>
            <p:nvPr/>
          </p:nvSpPr>
          <p:spPr>
            <a:xfrm>
              <a:off x="3494880" y="2737080"/>
              <a:ext cx="3430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33" name="Line 170"/>
            <p:cNvSpPr/>
            <p:nvPr/>
          </p:nvSpPr>
          <p:spPr>
            <a:xfrm flipH="1">
              <a:off x="6581880" y="1936800"/>
              <a:ext cx="2282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34" name="Line 171"/>
            <p:cNvSpPr/>
            <p:nvPr/>
          </p:nvSpPr>
          <p:spPr>
            <a:xfrm>
              <a:off x="7381800" y="1936800"/>
              <a:ext cx="2282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35" name="Line 172"/>
            <p:cNvSpPr/>
            <p:nvPr/>
          </p:nvSpPr>
          <p:spPr>
            <a:xfrm>
              <a:off x="6428520" y="2857680"/>
              <a:ext cx="21456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  <p:sp>
          <p:nvSpPr>
            <p:cNvPr id="636" name="Line 173"/>
            <p:cNvSpPr/>
            <p:nvPr/>
          </p:nvSpPr>
          <p:spPr>
            <a:xfrm>
              <a:off x="6714360" y="42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Kozuka Mincho Pro R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38" name="Picture 2" descr="F:\ндг.jpeg"/>
          <p:cNvPicPr/>
          <p:nvPr/>
        </p:nvPicPr>
        <p:blipFill>
          <a:blip r:embed="rId1"/>
          <a:stretch/>
        </p:blipFill>
        <p:spPr>
          <a:xfrm>
            <a:off x="0" y="642960"/>
            <a:ext cx="8786880" cy="56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40" name="Picture 2" descr="F:\ндг 3.jpeg"/>
          <p:cNvPicPr/>
          <p:nvPr/>
        </p:nvPicPr>
        <p:blipFill>
          <a:blip r:embed="rId1"/>
          <a:stretch/>
        </p:blipFill>
        <p:spPr>
          <a:xfrm>
            <a:off x="357120" y="642960"/>
            <a:ext cx="8358120" cy="56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Реализация программы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«Английская практика»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(образовательные поездки в Англию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7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Це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улучшение и практика английского язы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знакомство с культурой, традициями и обычаями страны изучаемого язы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представление русской культуры в международной школ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29600" cy="43891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7" descr="C:\Users\User\Desktop\P1030479.JPG"/>
          <p:cNvPicPr/>
          <p:nvPr/>
        </p:nvPicPr>
        <p:blipFill>
          <a:blip r:embed="rId2"/>
          <a:stretch/>
        </p:blipFill>
        <p:spPr>
          <a:xfrm>
            <a:off x="1000080" y="0"/>
            <a:ext cx="2786040" cy="32227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9" descr="IMG_0210"/>
          <p:cNvPicPr/>
          <p:nvPr/>
        </p:nvPicPr>
        <p:blipFill>
          <a:blip r:embed="rId3"/>
          <a:stretch/>
        </p:blipFill>
        <p:spPr>
          <a:xfrm>
            <a:off x="4932360" y="3429000"/>
            <a:ext cx="4027320" cy="30067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IMG_1597"/>
          <p:cNvPicPr/>
          <p:nvPr/>
        </p:nvPicPr>
        <p:blipFill>
          <a:blip r:embed="rId4"/>
          <a:stretch/>
        </p:blipFill>
        <p:spPr>
          <a:xfrm>
            <a:off x="4146480" y="115920"/>
            <a:ext cx="4145040" cy="27655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7" descr=""/>
          <p:cNvPicPr/>
          <p:nvPr/>
        </p:nvPicPr>
        <p:blipFill>
          <a:blip r:embed="rId5"/>
          <a:stretch/>
        </p:blipFill>
        <p:spPr>
          <a:xfrm>
            <a:off x="324000" y="3417840"/>
            <a:ext cx="452412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мплект тестов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для проведения компьютерного тестирования, сбора и анализа его результат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68360" y="178596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Диагностическая</a:t>
            </a:r>
            <a:r>
              <a:rPr b="1" i="1" lang="ru-RU" sz="2400" spc="-1" strike="noStrike">
                <a:solidFill>
                  <a:srgbClr val="0000ff"/>
                </a:solidFill>
                <a:latin typeface="Constantia"/>
              </a:rPr>
              <a:t> функция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ключается в выявлении уровня знаний, умений, навыков учащегося. Это основная и самая очевидная функция тестирова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Обучающая</a:t>
            </a:r>
            <a:r>
              <a:rPr b="1" i="1" lang="ru-RU" sz="2400" spc="-1" strike="noStrike">
                <a:solidFill>
                  <a:srgbClr val="0000ff"/>
                </a:solidFill>
                <a:latin typeface="Constantia"/>
              </a:rPr>
              <a:t> функция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стирования состоит в мотивировании учащегося к активизации работы по усвоению учебного материал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Воспитательная</a:t>
            </a:r>
            <a:r>
              <a:rPr b="1" i="1" lang="ru-RU" sz="2400" spc="-1" strike="noStrike">
                <a:solidFill>
                  <a:srgbClr val="0000ff"/>
                </a:solidFill>
                <a:latin typeface="Constantia"/>
              </a:rPr>
              <a:t> функция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является в периодичности и неизбежности тестового контроля. Это дисциплинирует, организует и направляет деятельность учащихся, помогает выявить и устранить пробелы в знаниях, формирует стремление развить свои способ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Заголовок 1"/>
          <p:cNvSpPr/>
          <p:nvPr/>
        </p:nvSpPr>
        <p:spPr>
          <a:xfrm>
            <a:off x="642960" y="285840"/>
            <a:ext cx="82296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ozuka Mincho Pro 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Компьютерное тестирование -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эффективный метод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л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крепления материала в качестве тренажер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ля проверки сформированности УУД в качестве контроля полученных зна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04:52:04Z</dcterms:created>
  <dc:creator>Mikhail Pakulov</dc:creator>
  <dc:description/>
  <dc:language>en-US</dc:language>
  <cp:lastModifiedBy>RePack by Diakov</cp:lastModifiedBy>
  <dcterms:modified xsi:type="dcterms:W3CDTF">2021-06-28T10:15:53Z</dcterms:modified>
  <cp:revision>191</cp:revision>
  <dc:subject/>
  <dc:title>Презентация творческого отчёта методического объединения учителей иностранных языков МОУ СОШ №43 г. Томска</dc:title>
</cp:coreProperties>
</file>